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AF17C-8DF0-4B55-9C79-1BCD565EE95B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2DFD-95FA-4C8A-920E-528C0513FA2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97516-0B5C-4666-A7F1-CF51CC07DFD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5111E-97A3-43BA-8434-96D26C7D930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69893-D705-4F22-A2D6-510B9F888274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EC7E8-6112-42AD-BE55-7533A797774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507B1-4D42-4BDE-B775-223EF892E01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E864B-1F22-4A9C-ABAF-A2A1391E597A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771A7-A7F7-4475-B1C6-476AFD41CAE3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E79DD-4EF5-4414-ABC0-0ED3AA17BBC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81C89-17B7-4F8F-8F47-7B3F1422FEB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47B48-4D4B-4E66-AA7E-2F18766285ED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2A3AA-A62E-4F5A-86D2-22E41793ACD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8E3BB-B6F9-42AE-93ED-5863E8FC475D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E65E4-2E07-4F05-B6E0-1C265260977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D8297-6469-4E0B-9CC3-3A15A838A02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3D681-7D3E-4C39-A920-BD939A19BCA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3C1A0-5121-44E2-B333-994DDE60CFD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C795D-5AF8-41BD-AABC-FB9060E0EC2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1E8C6-6570-40ED-A52C-C7197C41578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25463-91B9-439D-B4F4-A7E0DF0EEBA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1AAB5-1610-4990-878E-9F893679DC42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Kaplan Meier Kur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eber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1" descr=""/>
          <p:cNvPicPr/>
          <p:nvPr/>
        </p:nvPicPr>
        <p:blipFill>
          <a:blip r:embed="rId1"/>
          <a:stretch/>
        </p:blipFill>
        <p:spPr>
          <a:xfrm>
            <a:off x="1057320" y="1139760"/>
            <a:ext cx="74581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5" descr=""/>
          <p:cNvPicPr/>
          <p:nvPr/>
        </p:nvPicPr>
        <p:blipFill>
          <a:blip r:embed="rId1"/>
          <a:stretch/>
        </p:blipFill>
        <p:spPr>
          <a:xfrm>
            <a:off x="938160" y="1341360"/>
            <a:ext cx="70293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Mamma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1" descr=""/>
          <p:cNvPicPr/>
          <p:nvPr/>
        </p:nvPicPr>
        <p:blipFill>
          <a:blip r:embed="rId1"/>
          <a:stretch/>
        </p:blipFill>
        <p:spPr>
          <a:xfrm>
            <a:off x="808200" y="1212840"/>
            <a:ext cx="73389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Mela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2" descr=""/>
          <p:cNvPicPr/>
          <p:nvPr/>
        </p:nvPicPr>
        <p:blipFill>
          <a:blip r:embed="rId1"/>
          <a:stretch/>
        </p:blipFill>
        <p:spPr>
          <a:xfrm>
            <a:off x="546120" y="973080"/>
            <a:ext cx="75772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1" descr=""/>
          <p:cNvPicPr/>
          <p:nvPr/>
        </p:nvPicPr>
        <p:blipFill>
          <a:blip r:embed="rId1"/>
          <a:stretch/>
        </p:blipFill>
        <p:spPr>
          <a:xfrm>
            <a:off x="712800" y="976320"/>
            <a:ext cx="7564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Ovarial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2" descr=""/>
          <p:cNvPicPr/>
          <p:nvPr/>
        </p:nvPicPr>
        <p:blipFill>
          <a:blip r:embed="rId1"/>
          <a:stretch/>
        </p:blipFill>
        <p:spPr>
          <a:xfrm>
            <a:off x="747720" y="1122480"/>
            <a:ext cx="74469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hteck 2"/>
          <p:cNvSpPr/>
          <p:nvPr/>
        </p:nvSpPr>
        <p:spPr>
          <a:xfrm>
            <a:off x="2316240" y="357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Pankreas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1" descr=""/>
          <p:cNvPicPr/>
          <p:nvPr/>
        </p:nvPicPr>
        <p:blipFill>
          <a:blip r:embed="rId1"/>
          <a:stretch/>
        </p:blipFill>
        <p:spPr>
          <a:xfrm>
            <a:off x="723960" y="1003320"/>
            <a:ext cx="7624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Prostata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1"/>
          <a:stretch/>
        </p:blipFill>
        <p:spPr>
          <a:xfrm>
            <a:off x="1104840" y="1473120"/>
            <a:ext cx="68518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2" descr=""/>
          <p:cNvPicPr/>
          <p:nvPr/>
        </p:nvPicPr>
        <p:blipFill>
          <a:blip r:embed="rId1"/>
          <a:stretch/>
        </p:blipFill>
        <p:spPr>
          <a:xfrm>
            <a:off x="1104840" y="1473120"/>
            <a:ext cx="68518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afik 1" descr=""/>
          <p:cNvPicPr/>
          <p:nvPr/>
        </p:nvPicPr>
        <p:blipFill>
          <a:blip r:embed="rId1"/>
          <a:stretch/>
        </p:blipFill>
        <p:spPr>
          <a:xfrm>
            <a:off x="879480" y="1386000"/>
            <a:ext cx="6970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357120"/>
            <a:ext cx="6389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Alle Karzinome außer NMSC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566640" y="1282680"/>
            <a:ext cx="71103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Ösophagus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1009800" y="1344600"/>
            <a:ext cx="68371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invasives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1449360" y="1673280"/>
            <a:ext cx="657864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hteck 2"/>
          <p:cNvSpPr/>
          <p:nvPr/>
        </p:nvSpPr>
        <p:spPr>
          <a:xfrm>
            <a:off x="2316240" y="5587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invasives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Grafik 1" descr=""/>
          <p:cNvPicPr/>
          <p:nvPr/>
        </p:nvPicPr>
        <p:blipFill>
          <a:blip r:embed="rId1"/>
          <a:stretch/>
        </p:blipFill>
        <p:spPr>
          <a:xfrm>
            <a:off x="1449360" y="1673280"/>
            <a:ext cx="657864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Bösartige Neubildung in blutbildenden Organen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4" descr=""/>
          <p:cNvPicPr/>
          <p:nvPr/>
        </p:nvPicPr>
        <p:blipFill>
          <a:blip r:embed="rId1"/>
          <a:stretch/>
        </p:blipFill>
        <p:spPr>
          <a:xfrm>
            <a:off x="808200" y="1168560"/>
            <a:ext cx="72673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im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pf-Hals-Bereich außer Larynx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5" descr=""/>
          <p:cNvPicPr/>
          <p:nvPr/>
        </p:nvPicPr>
        <p:blipFill>
          <a:blip r:embed="rId1"/>
          <a:stretch/>
        </p:blipFill>
        <p:spPr>
          <a:xfrm>
            <a:off x="593640" y="1509840"/>
            <a:ext cx="69231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2"/>
          <p:cNvSpPr/>
          <p:nvPr/>
        </p:nvSpPr>
        <p:spPr>
          <a:xfrm>
            <a:off x="2316240" y="357120"/>
            <a:ext cx="6827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arnbla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"/>
          <p:cNvPicPr/>
          <p:nvPr/>
        </p:nvPicPr>
        <p:blipFill>
          <a:blip r:embed="rId1"/>
          <a:stretch/>
        </p:blipFill>
        <p:spPr>
          <a:xfrm>
            <a:off x="617400" y="1068480"/>
            <a:ext cx="7434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aufgeschlüsselt nach Diagnosejahr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558720" y="1003320"/>
            <a:ext cx="7623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nach Diagnosejahren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2" descr=""/>
          <p:cNvPicPr/>
          <p:nvPr/>
        </p:nvPicPr>
        <p:blipFill>
          <a:blip r:embed="rId1"/>
          <a:stretch/>
        </p:blipFill>
        <p:spPr>
          <a:xfrm>
            <a:off x="795240" y="1428840"/>
            <a:ext cx="69120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1" descr=""/>
          <p:cNvPicPr/>
          <p:nvPr/>
        </p:nvPicPr>
        <p:blipFill>
          <a:blip r:embed="rId1"/>
          <a:stretch/>
        </p:blipFill>
        <p:spPr>
          <a:xfrm>
            <a:off x="795240" y="1636560"/>
            <a:ext cx="66279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hteck 2"/>
          <p:cNvSpPr/>
          <p:nvPr/>
        </p:nvSpPr>
        <p:spPr>
          <a:xfrm>
            <a:off x="2316240" y="357120"/>
            <a:ext cx="682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aplan-Meier-Kurv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arynx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aufgeschlüsselt nach Diagnosejahre 2006–2010 und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4" descr=""/>
          <p:cNvPicPr/>
          <p:nvPr/>
        </p:nvPicPr>
        <p:blipFill>
          <a:blip r:embed="rId1"/>
          <a:stretch/>
        </p:blipFill>
        <p:spPr>
          <a:xfrm>
            <a:off x="843120" y="1068480"/>
            <a:ext cx="74818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5:34Z</dcterms:modified>
  <cp:revision>6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