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B0FFF-398B-411A-A638-F3EC4ABCDAA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5D51D-F5BE-441E-B6A5-C874DB69075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0CCA9-7AB6-4C02-8AAD-3F16914A97E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Häufigste Tumorlokalisatio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50148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hn häufigste Tumorlokalisationen in Vorarlberg 2011–2015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368280" y="1143000"/>
            <a:ext cx="743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50148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Zehn häufigste Tumorlokalisationen in Vorarlberg 2011–2015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689040" y="1230480"/>
            <a:ext cx="729144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3T10:02:11Z</dcterms:modified>
  <cp:revision>6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